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09C6-0E32-4E35-9CAD-09A111F3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DF1-DDEC-4BE3-B5C0-79DE8440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070-82BB-410B-BF96-BE585CFB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281-4F4E-4E83-AF0F-B7F6FA35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2488-E350-4E66-9DDA-907ABB6B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DEBB-8C98-424B-90B1-4CB0640D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ED85-C0CF-4B11-88D3-C0778D2B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3A08-44F7-462A-AEA1-E07599C5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36F3-FAA4-464F-88CB-F87223A6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0808-CDE4-4B07-A0EF-FB962938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C013-F114-4175-A749-78982A89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471-09D1-44BB-B4A6-40D78261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D34A-BD5B-4B20-88D6-9127236F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01B7-0C87-4774-9CEA-5000D59D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F5A3-A2F8-4327-B4B0-92B4A23F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1145-1C76-46AE-A65A-4332A157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48F1-5A07-41E4-B874-918EE6F9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9CBA-2B0F-4226-926B-DFAC6C70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607-7ED9-43EF-B9E6-B98EB165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AA2-2D84-4AF2-9EFE-8BB042DA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48FB-6497-45DF-8C9F-B8E5DE15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A86-C871-43FF-88FB-FF323EC4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5104-B362-4F4A-BA9B-A55BF179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5056-BC86-4D86-A71C-0A4D85B0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FC41-D4D9-4AF1-919B-DD006631B089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864B-50A8-4D0F-9921-D8C6FCDE27DA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Тема №6.</a:t>
            </a:r>
            <a:r>
              <a:rPr b="1" lang="uk-UA" sz="4800" spc="-1" strike="noStrike">
                <a:solidFill>
                  <a:srgbClr val="ccecff"/>
                </a:solidFill>
                <a:latin typeface="Arial"/>
              </a:rPr>
              <a:t>Процессуальные акты-документы по уголовным делам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Arial"/>
              </a:rPr>
              <a:t>1. Понятие, сущность и признаки процессуальных документов по уголовным делам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Arial"/>
              </a:rPr>
              <a:t>2. Виды процессуальных документов по уголовным дела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Arial"/>
              </a:rPr>
              <a:t>3. Требования, предъявляемые к процессуальным документам по уголовным дела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602720" y="1735920"/>
            <a:ext cx="594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Виды процессуальных документов: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органам, их принимающим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кругу вопросов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процессуальному порядку принятия решения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форме изложения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содержанию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выполняемым задачам (по функциональному признаку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субъектам, правомочным принимать решения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времени принятия и длительности действия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форме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юридической силе и др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1.     </a:t>
            </a:r>
            <a:r>
              <a:rPr b="1" lang="de-DE" sz="3600" spc="-1" strike="noStrike">
                <a:solidFill>
                  <a:srgbClr val="ccecff"/>
                </a:solidFill>
                <a:latin typeface="Arial"/>
              </a:rPr>
              <a:t>Понятие, сущность и признаки 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</a:t>
            </a:r>
            <a:r>
              <a:rPr b="1" lang="de-DE" sz="3600" spc="-1" strike="noStrike">
                <a:solidFill>
                  <a:srgbClr val="ccecff"/>
                </a:solidFill>
                <a:latin typeface="Arial"/>
              </a:rPr>
              <a:t>роцессуальных документов по 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у</a:t>
            </a:r>
            <a:r>
              <a:rPr b="1" lang="de-DE" sz="3600" spc="-1" strike="noStrike">
                <a:solidFill>
                  <a:srgbClr val="ccecff"/>
                </a:solidFill>
                <a:latin typeface="Arial"/>
              </a:rPr>
              <a:t>головным</a:t>
            </a:r>
            <a:r>
              <a:rPr b="0" lang="de-DE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Arial"/>
              </a:rPr>
              <a:t>Уголовно-процессуальный закон устанавливает стро­го определенный порядок деятельности органов дозна­ния, предварительного следствия, прокуратуры и суд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ecff"/>
                </a:solidFill>
                <a:latin typeface="Arial"/>
              </a:rPr>
              <a:t>Уголовно-процессуальная форма обуславливает письменный характер уголовно судопроизводства наряду с такими принципами, как устность, непосредственность, непрерывность, гласность и т.д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04920" y="1870560"/>
            <a:ext cx="855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Arial"/>
              </a:rPr>
              <a:t>Процессуальные действия участников уголовно-процессуальной деятельности, будучи облеченными в форму процессуального документа, получили в теории советского уголовного процесса наименование уголовно-процессуальных актов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0" lang="de-DE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ccecff"/>
                </a:solidFill>
                <a:latin typeface="Arial"/>
              </a:rPr>
              <a:t>Виды процессуальных документов по уголовным делам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Arial"/>
              </a:rPr>
              <a:t>Уголовно-процессуальные акты делятся на два основных вида: протоколы и процессуальные решен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09480" y="260352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Arial"/>
              </a:rPr>
              <a:t>Лупинская П.А.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eaeaea"/>
                </a:solidFill>
                <a:latin typeface="Arial"/>
              </a:rPr>
              <a:t> «Решение в уголовном судопроизводстве - это облеченный в установленную законом процессуальную форму правовой акт, в котором  прокурор,  орган дознания, следователь и дознаватель в определенном законом порядке дают ответы на возникающие по делу правовые вопросы и выражают властное волеизъявление о действиях, вытекающих из установленных обстоятельств и предписаний закона, направленных на достижение задач уголовного судопроизводства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62120" y="256068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Arial"/>
              </a:rPr>
              <a:t>Документы имеют внешнюю (способ словесно-документального проявления уголовно-процессуального акта: текст документа и стиль его изложения в документе) и внутреннюю форму (части его структуры, располагаемые в строго логической последовательности и не противоречащие друг другу – вводная, описательно-мотивировочная и резолютивная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3.</a:t>
            </a:r>
            <a:r>
              <a:rPr b="0" lang="de-DE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ccecff"/>
                </a:solidFill>
                <a:latin typeface="Arial"/>
              </a:rPr>
              <a:t>Требования, предъявляемые к процессуальным документам по уголовным делам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Arial"/>
              </a:rPr>
              <a:t>Законодатель предъявляет такие требования к содержанию и форме документов, которые дают возможность судить, насколько правильно решено все дело или отдельный правовой вопрос, соответствует ли решение обстоятельствам дела (фактическому основанию) и правовым нормам (юридическому основанию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297144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Arial"/>
              </a:rPr>
              <a:t>В документе, выражающем решение, должны быть отражены все черты и свойства, присущие решению как правовому акту, характеризующие законность и обоснованность решения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8T05:47:24Z</dcterms:created>
  <dc:creator>Пользователь</dc:creator>
  <dc:description/>
  <dc:language>en-US</dc:language>
  <cp:lastModifiedBy>Microsoft Office</cp:lastModifiedBy>
  <dcterms:modified xsi:type="dcterms:W3CDTF">2021-10-08T06:28:2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